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E3F-EDB7-4647-AC05-50110DDF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999320"/>
            <a:ext cx="7769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643-B59E-49B9-8516-D5CAAD4F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99932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99932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E6A-834B-48D3-9B00-8CAC17F8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999320"/>
            <a:ext cx="25012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999320"/>
            <a:ext cx="25012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999320"/>
            <a:ext cx="25012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3F55-342F-42D6-A74F-5ECC0BEB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FAF-A2CD-4778-A7E1-2A5B85E0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57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E7B-2E87-4221-9468-19380792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57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57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76C-724F-4826-BAE4-21DC56E8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E4E-A4F5-4255-A59E-E5BD994E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21D-9041-465E-9D66-45AFAB69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57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99932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74C-0E60-4EBB-940E-9E1150BE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57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99932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B3F-FEAD-4E59-A9AB-74F74812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999320"/>
            <a:ext cx="7769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863-58F3-4E02-B3F5-17059AF3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57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EBB17-395F-44BE-896C-48434655C21E}" type="slidenum"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iagramas Caus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09588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Información tomada del libro de Sterman, 2000. y del curso de dinámica de sistemas de la Universidad Nacional de Colombia Sede Medell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 DETERMINAR POLARIDAD DEL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Vía Rápid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e el número de Vínculos Neg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Vía Correc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astrear el efecto de un cambio pequeño en una de las variables a medida que se propaga en el cic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5219640"/>
            <a:ext cx="51912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 DETERMINAR POLARIDAD DEL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No debe haber Polaridades Ambigu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3514680"/>
            <a:ext cx="3809880" cy="240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1040" y="5832360"/>
            <a:ext cx="79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iste más de una relación causal entre las variables conec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81280" y="762120"/>
            <a:ext cx="3610080" cy="3238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68580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0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 DAR NOMBRE A LOS CI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3971880" cy="398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68580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0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 DAR NOMBRE A LOS CI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40072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68580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0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 DAR NOMBRE A LOS CI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295280" y="990720"/>
          <a:ext cx="622944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22944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8580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0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 DAR NOMBRE A LOS CI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 DAR NOMBRE A LOS CI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5360" y="5118120"/>
            <a:ext cx="299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1: Explo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2: Muy cansado para pen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B1: Midnight 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B2: Ata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B3: Control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B4: El perro se comió mi t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67800" cy="474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 INDICAR LOS RETARDOS IMPOR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retardos crean dinámica: inercia, oscilaciones, distancian las causas de los ef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3922560"/>
            <a:ext cx="3200400" cy="1668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276720" cy="15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. NOMBRE DE L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ombres de las variables deben ser los 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acciones (VERBOS) son capturados por los vínculos entre l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diagrama causal captura la ESTRUCTURA, no el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57320" y="5210280"/>
            <a:ext cx="679140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. NOMBRE DE LAS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nombres de las variables deben tener un sentido claro de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9200" y="3422520"/>
            <a:ext cx="8296200" cy="21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iagramas Caus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tenden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turar hipótesis acerca de las causas de la diná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icitar y capturar los modelos 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unicar realimentaciones relevantes de un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. NOMBRE DE LAS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oger variables cuyo sentido normal de dirección es pos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66880" y="3359160"/>
            <a:ext cx="7743600" cy="34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. CLAVES DE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r líneas curvas para la realimentación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iclos importantes deben verse como óvalos o cír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ganizar los diagramas para evitar que se crucen flec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colocar círculos, rectángulos o figuras alrededor de l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terar, Redibu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8. ESCOGER EL NIVEL ADECUAD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diagramas causales deben comunicar la estructura central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son tan detallados como lo son las ecu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cho detal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f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co detal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muestra la 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 es el nivel adecuado de detal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0" b="56854"/>
          <a:stretch/>
        </p:blipFill>
        <p:spPr>
          <a:xfrm>
            <a:off x="-457200" y="1371600"/>
            <a:ext cx="10134720" cy="2590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46696" r="0" b="0"/>
          <a:stretch/>
        </p:blipFill>
        <p:spPr>
          <a:xfrm>
            <a:off x="-152280" y="3657600"/>
            <a:ext cx="101343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dur="indefinite" fill="hold">
                      <p:stCondLst>
                        <p:cond delay="indefinite"/>
                      </p:stCondLst>
                      <p:childTnLst>
                        <p:par>
                          <p:cTn id="3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. NO COLOCAR TODOS LOS CICLOS EN UN SOLO DIAGRAMA GRANDE 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diagramas gran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53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ermiten ver los cic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53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ender cuáles son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53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ender cómo se genera la diná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rven sólo para impresionar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ólo los entienden quienes los construyen, no quien los neces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. HACER EXPLÍCITAS LAS METAS DE LOS CICLOS NEG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dos los ciclos negativos tienen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tas = Estado desead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iclos negativos comparan el estado actual con la meta, y tratan de corregir la discrep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dur="indefinite" fill="hold">
                      <p:stCondLst>
                        <p:cond delay="indefinite"/>
                      </p:stCondLst>
                      <p:childTnLst>
                        <p:par>
                          <p:cTn id="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dur="indefinite" fill="hold">
                      <p:stCondLst>
                        <p:cond delay="indefinite"/>
                      </p:stCondLst>
                      <p:childTnLst>
                        <p:par>
                          <p:cTn id="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543720" cy="3171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6905880" cy="28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dur="indefinite" fill="hold">
                      <p:stCondLst>
                        <p:cond delay="indefinite"/>
                      </p:stCondLst>
                      <p:childTnLst>
                        <p:par>
                          <p:cTn id="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fill="hold">
                      <p:stCondLst>
                        <p:cond delay="indefinite"/>
                      </p:stCondLst>
                      <p:childTnLst>
                        <p:par>
                          <p:cTn id="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1. DISTINGUIR ENTRE CONDICIONES ACTUALES Y PERCIB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diferencias entre el estado verdadero de las cosas y lo que los agentes perciben de ese estad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uido, errores de medición, sesgos, disto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3524040" cy="2514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643720" y="4800600"/>
            <a:ext cx="229896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ándo se d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ál es la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l produc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dur="indefinite" fill="hold">
                      <p:stCondLst>
                        <p:cond delay="indefinite"/>
                      </p:stCondLst>
                      <p:childTnLst>
                        <p:par>
                          <p:cTn id="4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dur="indefinite" fill="hold">
                      <p:stCondLst>
                        <p:cond delay="indefinite"/>
                      </p:stCondLst>
                      <p:childTnLst>
                        <p:par>
                          <p:cTn id="4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dur="indefinite" fill="hold">
                      <p:stCondLst>
                        <p:cond delay="indefinite"/>
                      </p:stCondLst>
                      <p:childTnLst>
                        <p:par>
                          <p:cTn id="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fill="hold">
                      <p:stCondLst>
                        <p:cond delay="indefinite"/>
                      </p:stCondLst>
                      <p:childTnLst>
                        <p:par>
                          <p:cTn id="4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19320" y="1501920"/>
            <a:ext cx="701028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namien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lice un diagrama causal que muestre la dinámica de la población en una localidad considerando políticas de inmi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iste de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ectadas por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lech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denotan las influencias causales sobre l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ben contener los ciclos de realimentación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3251160"/>
            <a:ext cx="708660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7238880" cy="1922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255160" cy="51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ínculo Posi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la caus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crem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l efect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crem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or encima de lo que podría haber ocurrido en otro 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la caus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cre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l efect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cre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or debajo de lo que podría haber ocurrido en otro 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ínculo Neg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la caus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crem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l efect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cre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or debajo de lo que podría haber ocurrido en otro 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la caus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cre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l efect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crem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or encima de lo que podría haber ocurrido en otro 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USA vs. CORR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orrelaciones expresan el comportamiento pasado de la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orrelaciones no representan la estructura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diagramas deben incluir solo las relaciones que capturan la estructura interna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orrelaciones deben surgir del comportamiento del modelo cuando se si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886200" cy="22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48320" y="1901880"/>
          <a:ext cx="3809880" cy="307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01880"/>
                    <a:ext cx="38098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R LA POLARIDAD DEL VÍN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520" y="1951200"/>
            <a:ext cx="6172200" cy="2469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52480" y="4295880"/>
            <a:ext cx="624852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37:06Z</dcterms:created>
  <dc:creator>Gloria E.</dc:creator>
  <dc:description/>
  <dc:language>en-US</dc:language>
  <cp:lastModifiedBy>personal</cp:lastModifiedBy>
  <dcterms:modified xsi:type="dcterms:W3CDTF">2007-03-28T02:29:07Z</dcterms:modified>
  <cp:revision>102</cp:revision>
  <dc:subject/>
  <dc:title>Retardos</dc:title>
</cp:coreProperties>
</file>